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5398640" y="4189320"/>
            <a:ext cx="216000" cy="10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12520" y="5794920"/>
            <a:ext cx="1463364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310960" y="213336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1252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310960" y="5794920"/>
            <a:ext cx="714096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6000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707840" y="213336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1252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576000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10707840" y="5794920"/>
            <a:ext cx="47116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7040" y="1536840"/>
            <a:ext cx="139446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7040" y="4711680"/>
            <a:ext cx="13944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7040" y="241200"/>
            <a:ext cx="139302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1570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533160" indent="-3931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1" marL="778680" indent="-39564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2" marL="1024200" indent="-39600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3" marL="1279800" indent="-39564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4" marL="1525320" indent="-394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5" marL="1525320" indent="-394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6" marL="1525320" indent="-394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7040" y="241200"/>
            <a:ext cx="139302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157040" y="2603520"/>
            <a:ext cx="139302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615960" indent="-45396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1" marL="898920" indent="-45684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45720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3" marL="1478160" indent="-45684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4" marL="1761480" indent="-45576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5" marL="1761480" indent="-45576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6" marL="1761480" indent="-45576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7040" y="241200"/>
            <a:ext cx="139302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853120" y="2603520"/>
            <a:ext cx="623412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533160" indent="-3931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1" marL="778680" indent="-39564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2" marL="1024200" indent="-39600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3" marL="1279800" indent="-39564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4" marL="1525320" indent="-394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5" marL="1525320" indent="-394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6" marL="1525320" indent="-394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11570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533160" indent="-3931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1" marL="778680" indent="-39564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2" marL="1024200" indent="-39600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3" marL="1279800" indent="-39564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4" marL="1525320" indent="-394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5" marL="1525320" indent="-394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6" marL="1525320" indent="-394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157040" y="241200"/>
            <a:ext cx="139302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1157040" y="1180800"/>
            <a:ext cx="1393020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600480" indent="-45720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1" marL="851760" indent="-45972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2" marL="1103040" indent="-45972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3" marL="1365120" indent="-45972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4" marL="1616400" indent="-4586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5" marL="1616400" indent="-4586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6" marL="1616400" indent="-4586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7040" y="241200"/>
            <a:ext cx="139302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157040" y="2603520"/>
            <a:ext cx="139302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586440" indent="-44640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1" marL="831960" indent="-44928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2" marL="1077120" indent="-44928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3" marL="1333440" indent="-44928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4" marL="1578600" indent="-44784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5" marL="1578600" indent="-44784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6" marL="1578600" indent="-447840">
              <a:spcBef>
                <a:spcPts val="34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7040" y="2781000"/>
            <a:ext cx="139302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398640" y="9276840"/>
            <a:ext cx="216000" cy="9540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44640" bIns="4464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12520" y="2133360"/>
            <a:ext cx="14633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t">
            <a:normAutofit/>
          </a:bodyPr>
          <a:p>
            <a:pPr marL="382680" indent="-343080">
              <a:spcBef>
                <a:spcPts val="98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1" marL="681120" indent="-285840">
              <a:spcBef>
                <a:spcPts val="98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2" marL="1081080" indent="-228600">
              <a:spcBef>
                <a:spcPts val="98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3" marL="1536840" indent="-227160">
              <a:spcBef>
                <a:spcPts val="98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8600">
              <a:spcBef>
                <a:spcPts val="986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8600">
              <a:spcBef>
                <a:spcPts val="98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8600">
              <a:spcBef>
                <a:spcPts val="98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7040" y="1536840"/>
            <a:ext cx="139302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157040" y="4711680"/>
            <a:ext cx="139302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7040" y="6908760"/>
            <a:ext cx="139302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7040" y="6908760"/>
            <a:ext cx="139302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7040" y="1434600"/>
            <a:ext cx="83674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157040" y="4597560"/>
            <a:ext cx="83674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7040" y="1434600"/>
            <a:ext cx="83674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157040" y="4597560"/>
            <a:ext cx="83674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65000" y="241200"/>
            <a:ext cx="1293948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41120" y="-1778040"/>
            <a:ext cx="16002000" cy="120016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914400" y="565200"/>
            <a:ext cx="14416200" cy="838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140d"/>
                </a:solidFill>
                <a:latin typeface="Arial"/>
                <a:ea typeface="Arial"/>
              </a:rPr>
              <a:t>Erfolgsstrategien für AFNB-Mitglieder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8199936" presetSubtype="1082320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254160"/>
            <a:ext cx="9132840" cy="80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Neurowissenschaftliche Erkenntnisse in der Aus- und Weiterbildung..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terstützen uns dabei hirngerechte Arbeitsplätze zu schaffen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Und warum?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700" spc="-1" strike="noStrike">
                <a:solidFill>
                  <a:srgbClr val="000000"/>
                </a:solidFill>
                <a:latin typeface="Gill Sans"/>
              </a:rPr>
              <a:t>Weil uns die Gehirnforschung viele Hinweise über die Entstehung von inneren Zielen und Motiven gibt und wir diese Erkenntnisse bei der Besetzung von offenen Stellen nutzen können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10148760" y="-533520"/>
            <a:ext cx="7174080" cy="1079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0152000" y="0"/>
            <a:ext cx="6188040" cy="928368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14400" y="254160"/>
            <a:ext cx="9132840" cy="75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Neurowissenschaftliche Erkenntnisse in der Aus- und Weiterbildung..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affen ein besseres Verständnis für uns selbst.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Und warum?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Weil wir mit Hilfe von neurowissenschaftlichem Wissen nicht zum Spielball, sondern zum Coach unseres Gehirns werden können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254160"/>
            <a:ext cx="9132840" cy="69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Neurowissenschaftliche Erkenntnisse in der Aus- und Weiterbildung..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affen ein besseres Verständnis für andere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Und warum?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Weil wir besser verstehen, warum andere anders denken, anders handeln oder anders entscheiden als wir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0148760" y="0"/>
            <a:ext cx="6183360" cy="928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914400" y="254160"/>
            <a:ext cx="9132840" cy="69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Neurowissenschaftliche Erkenntnisse in der Aus- und Weiterbildung..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verbessern die Leistungsfähigkeit von Menschen.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Und warum?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Weil wir die körperlichen Ressourcen hirngerechter und somit effizienter nutzen können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0148760" y="0"/>
            <a:ext cx="6197760" cy="928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914400" y="254160"/>
            <a:ext cx="9132840" cy="69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Neurowissenschaftliche Erkenntnisse in der Aus- und Weiterbildung..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reduzieren die Anfälligkeit von Krankheiten wie z.B. Stress, Burnout oder Depression.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Und warum?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Weil wir hirngerechtere Methoden und Arbeitsabläufe schaffen können, die eine Überbelastung verhindern können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0148760" y="0"/>
            <a:ext cx="6222960" cy="933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10148760" y="0"/>
            <a:ext cx="7177320" cy="928368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254160"/>
            <a:ext cx="9132840" cy="80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Neurowissenschaftliche Erkenntnisse in der Aus- und Weiterbildung..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rhöhen die Nachhaltigkeit von Trainings und Seminaren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Und warum?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Weil wir eine bessere Vorstellung von dem bekommen, was in unserem Gehirn passiert und aktiv gegensteuern können, wenn wir der Versuchung ausgesetzt sind, in alte Verhaltensmuster zurück zu fallen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14400" y="1511280"/>
            <a:ext cx="144162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140d"/>
                </a:solidFill>
                <a:latin typeface="Helvetica Neue"/>
              </a:rPr>
              <a:t>Warum sind Sie als Mitglied unserer Akademie besonders geeignet, diese Erkenntnisse zu schulen, zu trainieren und zu coachen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254160"/>
            <a:ext cx="91328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Sie sind deswegen besonders geeignet, weil…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ie Zugriff auf die weltweit wohl größte neurowissenschaftliche Datenbank für Trainer, Berater und Coaches haben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10145880" y="0"/>
            <a:ext cx="6189480" cy="928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14400" y="254160"/>
            <a:ext cx="91328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Sie sind deswegen besonders geeignet, weil…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iese Datenbank bundesweit exclusiv nur max. 360 Trainer, Berater und Coaches Zugriff zur Verfügung steht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0148760" y="0"/>
            <a:ext cx="6172200" cy="9247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914400" y="254160"/>
            <a:ext cx="91328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Sie sind deswegen besonders geeignet, weil…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iese Datenbank jeden Monat um aktuelle neurowissenschaftliche Erkenntnisse erweitert wird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0148760" y="0"/>
            <a:ext cx="6197760" cy="928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6160" cy="116586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14400" y="254160"/>
            <a:ext cx="91328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Sie sind deswegen besonders geeignet, weil…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r gesamte Wissensinhalt der Datenbank in unterschiedlichen Formaten zur Verfügung steht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0148760" y="0"/>
            <a:ext cx="6237360" cy="934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14400" y="254160"/>
            <a:ext cx="91328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Sie sind deswegen besonders geeignet, weil…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ie alle drei Monate an einer neurowissenschaftlichen Fortbildung teilnehmen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0148760" y="0"/>
            <a:ext cx="8001000" cy="928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14400" y="254160"/>
            <a:ext cx="9132840" cy="53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Sie sind deswegen besonders geeignet, weil…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ie einmal pro Jahr an einem Wissenschaftsforum teilnehmen, wo Sie Wissen von den namhaftesten und bekanntesten Neurowissenschaftlern unserer Zeit erhalten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10145880" y="-50760"/>
            <a:ext cx="13947480" cy="927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0" y="-965160"/>
            <a:ext cx="16354440" cy="111506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800" y="6769080"/>
            <a:ext cx="13080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0" lang="en-US" sz="9500" spc="-1" strike="noStrike">
                <a:solidFill>
                  <a:srgbClr val="ffffff"/>
                </a:solidFill>
                <a:latin typeface="Arial"/>
                <a:ea typeface="Arial"/>
              </a:rPr>
              <a:t>Human Brain Projects“</a:t>
            </a:r>
            <a:endParaRPr b="0" lang="en-US" sz="9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46520" cy="1089648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793960" y="6578640"/>
            <a:ext cx="10758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9500" spc="-1" strike="noStrike">
                <a:solidFill>
                  <a:srgbClr val="000000"/>
                </a:solidFill>
                <a:latin typeface="Arial"/>
                <a:ea typeface="Arial"/>
              </a:rPr>
              <a:t>Brain Activity Map“</a:t>
            </a:r>
            <a:endParaRPr b="0" lang="en-US" sz="9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0" y="-127080"/>
            <a:ext cx="16256160" cy="1143468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638280" y="4741920"/>
            <a:ext cx="5562360" cy="379260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3"/>
          <a:stretch/>
        </p:blipFill>
        <p:spPr>
          <a:xfrm>
            <a:off x="9956880" y="4732200"/>
            <a:ext cx="556236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26000" cy="1088388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14400" y="1511280"/>
            <a:ext cx="144162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140d"/>
                </a:solidFill>
                <a:latin typeface="Helvetica Neue"/>
              </a:rPr>
              <a:t>Warum sind neurowissenschaftliche Erkenntnisse für die Aus- und Weiterbildung sehr wichtig – und warum sind Sie als Mitglied unserer Akademie besonders geeignet, diese Erkenntnisse zu schulen, zu trainieren und zu coachen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10142640" y="0"/>
            <a:ext cx="6113520" cy="91566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4400" y="254160"/>
            <a:ext cx="913284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Neurowissenschaftliche Erkenntnisse in der Aus- und Weiterbildung..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fördern die Glaubhaftigkeit von Trainings-,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ulungs- und Seminarinhalten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Und warum?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Weil sich Inhalte und Aussage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wissenschaftlich beweisen lassen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98640" y="9212400"/>
            <a:ext cx="216000" cy="224280"/>
          </a:xfrm>
          <a:prstGeom prst="rect">
            <a:avLst/>
          </a:prstGeom>
          <a:noFill/>
          <a:ln w="0">
            <a:noFill/>
          </a:ln>
        </p:spPr>
        <p:txBody>
          <a:bodyPr lIns="50760" rIns="105120" tIns="50760" bIns="5076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914400" y="254160"/>
            <a:ext cx="9132840" cy="75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Neurowissenschaftliche Erkenntnisse in der Aus- und Weiterbildung..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helfen uns dabei hirngerechte Lernmodelle zu entwickeln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140d"/>
                </a:solidFill>
                <a:latin typeface="Helvetica Neue"/>
              </a:rPr>
              <a:t>Und warum?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Weil  wir inzwischen sehr viel darüber wissen, wie Wissen entsteht, wie Wissen verarbeitet und in unserem Gehirn gespeichert wird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10148760" y="0"/>
            <a:ext cx="7910640" cy="917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orsten Seelbach</cp:lastModifiedBy>
  <dcterms:modified xsi:type="dcterms:W3CDTF">2013-07-29T22:05:27Z</dcterms:modified>
  <cp:revision>3</cp:revision>
  <dc:subject/>
  <dc:title>Folie 1</dc:title>
</cp:coreProperties>
</file>