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139446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240" y="4711680"/>
            <a:ext cx="1394460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5240" y="7026840"/>
            <a:ext cx="1394460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139446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240" y="4711680"/>
            <a:ext cx="68047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00520" y="4711680"/>
            <a:ext cx="68047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240" y="7026840"/>
            <a:ext cx="68047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300520" y="7026840"/>
            <a:ext cx="68047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139446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5240" y="4711680"/>
            <a:ext cx="44899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70160" y="4711680"/>
            <a:ext cx="44899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584720" y="4711680"/>
            <a:ext cx="44899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5240" y="7026840"/>
            <a:ext cx="44899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870160" y="7026840"/>
            <a:ext cx="44899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584720" y="7026840"/>
            <a:ext cx="44899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139446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5240" y="4711680"/>
            <a:ext cx="1394460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139446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5240" y="4711680"/>
            <a:ext cx="13944600" cy="443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139446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5240" y="4711680"/>
            <a:ext cx="6804720" cy="443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300520" y="4711680"/>
            <a:ext cx="6804720" cy="443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139446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55240" y="1570320"/>
            <a:ext cx="13944600" cy="182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139446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240" y="4711680"/>
            <a:ext cx="68047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300520" y="4711680"/>
            <a:ext cx="6804720" cy="443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5240" y="7026840"/>
            <a:ext cx="68047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139446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240" y="4711680"/>
            <a:ext cx="6804720" cy="443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300520" y="4711680"/>
            <a:ext cx="68047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00520" y="7026840"/>
            <a:ext cx="68047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139446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240" y="4711680"/>
            <a:ext cx="68047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300520" y="4711680"/>
            <a:ext cx="680472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5240" y="7026840"/>
            <a:ext cx="13944600" cy="211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5240" y="-360"/>
            <a:ext cx="13944600" cy="462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240" y="4711680"/>
            <a:ext cx="13944600" cy="443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6858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Fotolia_53195723_S" descr=""/>
          <p:cNvPicPr/>
          <p:nvPr/>
        </p:nvPicPr>
        <p:blipFill>
          <a:blip r:embed="rId1"/>
          <a:stretch/>
        </p:blipFill>
        <p:spPr>
          <a:xfrm>
            <a:off x="0" y="0"/>
            <a:ext cx="16256160" cy="10503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15135120" y="8893080"/>
            <a:ext cx="1005120" cy="1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TS Holding GmbH 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"/>
          <p:cNvSpPr/>
          <p:nvPr/>
        </p:nvSpPr>
        <p:spPr>
          <a:xfrm>
            <a:off x="946080" y="5702400"/>
            <a:ext cx="14362200" cy="850680"/>
          </a:xfrm>
          <a:prstGeom prst="pie">
            <a:avLst/>
          </a:prstGeom>
          <a:solidFill>
            <a:srgbClr val="7f7f7f"/>
          </a:solidFill>
          <a:ln w="0">
            <a:noFill/>
          </a:ln>
          <a:effectLst>
            <a:outerShdw dist="10182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"/>
          <p:cNvSpPr/>
          <p:nvPr/>
        </p:nvSpPr>
        <p:spPr>
          <a:xfrm>
            <a:off x="952560" y="5827680"/>
            <a:ext cx="14136480" cy="598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080" rIns="127080" tIns="127080" bIns="127080" anchor="ctr">
            <a:no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e Sie mit unseren Video- und Audiodateien mehr Kunden gewinnen und höhere Einnahmen erzielen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643280"/>
            <a:ext cx="5527800" cy="1155960"/>
          </a:xfrm>
          <a:prstGeom prst="pie">
            <a:avLst/>
          </a:prstGeom>
          <a:gradFill rotWithShape="0">
            <a:gsLst>
              <a:gs pos="0">
                <a:srgbClr val="a10008"/>
              </a:gs>
              <a:gs pos="100000">
                <a:srgbClr val="6f0404"/>
              </a:gs>
            </a:gsLst>
            <a:lin ang="5400000"/>
          </a:gradFill>
          <a:ln w="0">
            <a:noFill/>
          </a:ln>
          <a:effectLst>
            <a:outerShdw dist="10182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"/>
          <p:cNvSpPr/>
          <p:nvPr/>
        </p:nvSpPr>
        <p:spPr>
          <a:xfrm>
            <a:off x="635040" y="4913280"/>
            <a:ext cx="4255920" cy="615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old"/>
              </a:rPr>
              <a:t>Erfolgsstrategie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Seminar_Fotolia_4357480_M" descr=""/>
          <p:cNvPicPr/>
          <p:nvPr/>
        </p:nvPicPr>
        <p:blipFill>
          <a:blip r:embed="rId1"/>
          <a:stretch/>
        </p:blipFill>
        <p:spPr>
          <a:xfrm>
            <a:off x="-49320" y="-17640"/>
            <a:ext cx="16340400" cy="10866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5640" y="158760"/>
            <a:ext cx="15211440" cy="861228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15135120" y="8893080"/>
            <a:ext cx="1005120" cy="1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TS Holding GmbH 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5680080" y="525600"/>
            <a:ext cx="489420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3 Schulungstage zu je 1.000 €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6786720" y="1185840"/>
            <a:ext cx="268128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3.000 € Umsatz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579640" y="323640"/>
            <a:ext cx="5094720" cy="1592280"/>
            <a:chOff x="5579640" y="323640"/>
            <a:chExt cx="5094720" cy="1592280"/>
          </a:xfrm>
        </p:grpSpPr>
        <p:sp>
          <p:nvSpPr>
            <p:cNvPr id="85" name=""/>
            <p:cNvSpPr/>
            <p:nvPr/>
          </p:nvSpPr>
          <p:spPr>
            <a:xfrm flipV="1">
              <a:off x="5580000" y="323640"/>
              <a:ext cx="5094360" cy="1592280"/>
            </a:xfrm>
            <a:prstGeom prst="line">
              <a:avLst/>
            </a:prstGeom>
            <a:ln w="25560">
              <a:solidFill>
                <a:srgbClr val="9914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 rot="10800000">
              <a:off x="5579640" y="323280"/>
              <a:ext cx="5094360" cy="159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579640" y="316080"/>
            <a:ext cx="5094360" cy="1591920"/>
            <a:chOff x="5579640" y="316080"/>
            <a:chExt cx="5094360" cy="1591920"/>
          </a:xfrm>
        </p:grpSpPr>
        <p:sp>
          <p:nvSpPr>
            <p:cNvPr id="88" name=""/>
            <p:cNvSpPr/>
            <p:nvPr/>
          </p:nvSpPr>
          <p:spPr>
            <a:xfrm flipH="1" flipV="1">
              <a:off x="5579640" y="316080"/>
              <a:ext cx="5094360" cy="1591920"/>
            </a:xfrm>
            <a:prstGeom prst="line">
              <a:avLst/>
            </a:prstGeom>
            <a:ln w="25560">
              <a:solidFill>
                <a:srgbClr val="9914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 rot="10800000">
              <a:off x="5579640" y="315720"/>
              <a:ext cx="5094360" cy="159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680080" y="2438280"/>
            <a:ext cx="4894200" cy="51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2 Schulungstage zu je 1.000 €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6786720" y="5638680"/>
            <a:ext cx="2681280" cy="51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2.000 € Umsatz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>
            <a:off x="5278320" y="3876840"/>
            <a:ext cx="1517760" cy="217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Gill Sans"/>
              </a:rPr>
              <a:t>⤶</a:t>
            </a:r>
            <a:endParaRPr b="0" lang="en-US" sz="1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9443880" y="3876840"/>
            <a:ext cx="1517760" cy="2174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Gill Sans"/>
              </a:rPr>
              <a:t>⤶</a:t>
            </a:r>
            <a:endParaRPr b="0" lang="en-US" sz="1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4156200" y="4826160"/>
            <a:ext cx="106020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½ Ta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>
            <a:off x="11037960" y="4826160"/>
            <a:ext cx="106020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½ Ta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3494160" y="5638680"/>
            <a:ext cx="2384280" cy="51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500 € Umsatz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10375920" y="5638680"/>
            <a:ext cx="2384280" cy="513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elvetica Neue"/>
              </a:rPr>
              <a:t>500 € Umsatz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"/>
          <p:cNvSpPr/>
          <p:nvPr/>
        </p:nvSpPr>
        <p:spPr>
          <a:xfrm>
            <a:off x="7507440" y="3503520"/>
            <a:ext cx="1225440" cy="213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700" spc="-1" strike="noStrike">
                <a:solidFill>
                  <a:srgbClr val="000000"/>
                </a:solidFill>
                <a:latin typeface="Gill Sans"/>
              </a:rPr>
              <a:t>↓</a:t>
            </a:r>
            <a:endParaRPr b="0" lang="en-US" sz="1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1730520" y="6451560"/>
            <a:ext cx="12882240" cy="2163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79200" indent="-79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Helvetica Neue"/>
              </a:rPr>
              <a:t>Vorteile: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79200" indent="-79200">
              <a:lnSpc>
                <a:spcPct val="15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Sie sind statt drei Tage nur zwei Tage unterwegs, haben aber dennoch 3.000 € Umsatz.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marL="79200" indent="-79200">
              <a:lnSpc>
                <a:spcPct val="15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Helvetica Neue"/>
              </a:rPr>
              <a:t>Die Mitarbeiter fehlen statt drei nur zwei Tage im Unternehmen.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135120" y="8893080"/>
            <a:ext cx="1005120" cy="1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TS Holding GmbH 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Trainer_Fotolia_5544325_XS" descr=""/>
          <p:cNvPicPr/>
          <p:nvPr/>
        </p:nvPicPr>
        <p:blipFill>
          <a:blip r:embed="rId1"/>
          <a:stretch/>
        </p:blipFill>
        <p:spPr>
          <a:xfrm>
            <a:off x="-20520" y="-11160"/>
            <a:ext cx="6116400" cy="9166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11840" y="642960"/>
            <a:ext cx="8917200" cy="1798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140d"/>
                </a:solidFill>
                <a:latin typeface="Helvetica Neue"/>
              </a:rPr>
              <a:t>Warum setzen Trainer, Berater und Coaches in ihren Schulungen, Seminaren oder Coachingstunden nur selten oder nie Video- und Audiodateien ein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"/>
          <p:cNvSpPr/>
          <p:nvPr/>
        </p:nvSpPr>
        <p:spPr>
          <a:xfrm>
            <a:off x="6711840" y="3268800"/>
            <a:ext cx="926460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Weil sie keine Video- und Audiodateien hab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"/>
          <p:cNvSpPr/>
          <p:nvPr/>
        </p:nvSpPr>
        <p:spPr>
          <a:xfrm>
            <a:off x="6711840" y="4064040"/>
            <a:ext cx="855828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Weil sie nicht über das technische Wissen verfüg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"/>
          <p:cNvSpPr/>
          <p:nvPr/>
        </p:nvSpPr>
        <p:spPr>
          <a:xfrm>
            <a:off x="6711840" y="4859280"/>
            <a:ext cx="6859800" cy="514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Weil die Produktionskosten zu hoch sin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135120" y="8893080"/>
            <a:ext cx="1005120" cy="1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TS Holding GmbH 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1" name="Trainer_Fotolia_5544325_XS" descr=""/>
          <p:cNvPicPr/>
          <p:nvPr/>
        </p:nvPicPr>
        <p:blipFill>
          <a:blip r:embed="rId1"/>
          <a:stretch/>
        </p:blipFill>
        <p:spPr>
          <a:xfrm>
            <a:off x="-20520" y="-11160"/>
            <a:ext cx="6116400" cy="9166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11840" y="642960"/>
            <a:ext cx="8917200" cy="1798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140d"/>
                </a:solidFill>
                <a:latin typeface="Helvetica Neue"/>
              </a:rPr>
              <a:t>Warum sollten Trainer, Berater und Coaches in ihren Schulungen, Seminaren oder Coachingstunden Video- und Audiodateien einsetzen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"/>
          <p:cNvSpPr/>
          <p:nvPr/>
        </p:nvSpPr>
        <p:spPr>
          <a:xfrm>
            <a:off x="6711840" y="3268800"/>
            <a:ext cx="740088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Weil diese Formate für Abwechslung sorg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"/>
          <p:cNvSpPr/>
          <p:nvPr/>
        </p:nvSpPr>
        <p:spPr>
          <a:xfrm>
            <a:off x="6711840" y="4064040"/>
            <a:ext cx="585000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Weil sie zur Beweisführung dien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"/>
          <p:cNvSpPr/>
          <p:nvPr/>
        </p:nvSpPr>
        <p:spPr>
          <a:xfrm>
            <a:off x="6711840" y="4859280"/>
            <a:ext cx="8050320" cy="514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Weil sie eine größere Nachhaltigkeit garantieren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135120" y="8893080"/>
            <a:ext cx="1005120" cy="1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TS Holding GmbH 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" name="Trainer_Fotolia_5544325_XS" descr=""/>
          <p:cNvPicPr/>
          <p:nvPr/>
        </p:nvPicPr>
        <p:blipFill>
          <a:blip r:embed="rId1"/>
          <a:stretch/>
        </p:blipFill>
        <p:spPr>
          <a:xfrm>
            <a:off x="-20520" y="-11160"/>
            <a:ext cx="6116400" cy="916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11840" y="642960"/>
            <a:ext cx="8917200" cy="1798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Welche Vorteile hat Ihr Auftraggeber, wenn Sie zusätzlich zu Ihren Leistungen Video- und Audioformate anbieten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"/>
          <p:cNvSpPr/>
          <p:nvPr/>
        </p:nvSpPr>
        <p:spPr>
          <a:xfrm>
            <a:off x="6711840" y="3268800"/>
            <a:ext cx="288792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Er spart Kost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"/>
          <p:cNvSpPr/>
          <p:nvPr/>
        </p:nvSpPr>
        <p:spPr>
          <a:xfrm>
            <a:off x="6711840" y="4064040"/>
            <a:ext cx="772164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Er bietet seinen Mitarbeitern etwas besond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>
            <a:off x="6711840" y="4859280"/>
            <a:ext cx="6686640" cy="514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Er zeigt sich als innovativer Arbeitge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135120" y="8893080"/>
            <a:ext cx="1005120" cy="1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TS Holding GmbH 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" name="Trainer_Fotolia_5544325_XS" descr=""/>
          <p:cNvPicPr/>
          <p:nvPr/>
        </p:nvPicPr>
        <p:blipFill>
          <a:blip r:embed="rId1"/>
          <a:stretch/>
        </p:blipFill>
        <p:spPr>
          <a:xfrm>
            <a:off x="-20520" y="-11160"/>
            <a:ext cx="6116400" cy="9166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711840" y="642960"/>
            <a:ext cx="8917200" cy="1798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Worin liegen Ihre Chancen als Mitglied unserer Akademie, wenn Sie unsere multimedialen Dateiformate einsetzen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"/>
          <p:cNvSpPr/>
          <p:nvPr/>
        </p:nvSpPr>
        <p:spPr>
          <a:xfrm>
            <a:off x="6711840" y="3268800"/>
            <a:ext cx="538488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ie gewinnen mehr Neukunde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"/>
          <p:cNvSpPr/>
          <p:nvPr/>
        </p:nvSpPr>
        <p:spPr>
          <a:xfrm>
            <a:off x="6711840" y="4064040"/>
            <a:ext cx="6010560" cy="512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ie bekommen mehr Folgeaufträ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"/>
          <p:cNvSpPr/>
          <p:nvPr/>
        </p:nvSpPr>
        <p:spPr>
          <a:xfrm>
            <a:off x="6711840" y="4859280"/>
            <a:ext cx="4330800" cy="514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40d"/>
                </a:solidFill>
                <a:latin typeface="Helvetica Neue"/>
              </a:rPr>
              <a:t>● 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Sie verdienen mehr Gel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135120" y="8893080"/>
            <a:ext cx="1005120" cy="1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TS Holding GmbH 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9" name="Trainer_Fotolia_5544325_XS" descr=""/>
          <p:cNvPicPr/>
          <p:nvPr/>
        </p:nvPicPr>
        <p:blipFill>
          <a:blip r:embed="rId1"/>
          <a:stretch/>
        </p:blipFill>
        <p:spPr>
          <a:xfrm>
            <a:off x="-20520" y="-11160"/>
            <a:ext cx="6116400" cy="9166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11840" y="642960"/>
            <a:ext cx="8917200" cy="550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140d"/>
                </a:solidFill>
                <a:latin typeface="Helvetica Neue"/>
              </a:rPr>
              <a:t>Wie kann ich Videos in meine Präsentation einbauen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140d"/>
                </a:solidFill>
                <a:latin typeface="Helvetica Neue"/>
              </a:rPr>
              <a:t>Wie kann ich nur eine bestimmte Sequenz eines Videos zeigen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135120" y="8893080"/>
            <a:ext cx="1005120" cy="1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TS Holding GmbH 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2" name="pasted-image" descr=""/>
          <p:cNvPicPr/>
          <p:nvPr/>
        </p:nvPicPr>
        <p:blipFill>
          <a:blip r:embed="rId1"/>
          <a:stretch/>
        </p:blipFill>
        <p:spPr>
          <a:xfrm>
            <a:off x="260280" y="190440"/>
            <a:ext cx="15735240" cy="8763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135120" y="8893080"/>
            <a:ext cx="1005120" cy="1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TS Holding GmbH 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"/>
          <p:cNvSpPr/>
          <p:nvPr/>
        </p:nvSpPr>
        <p:spPr>
          <a:xfrm>
            <a:off x="6226200" y="6261120"/>
            <a:ext cx="5753160" cy="2286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asted-image" descr=""/>
          <p:cNvPicPr/>
          <p:nvPr/>
        </p:nvPicPr>
        <p:blipFill>
          <a:blip r:embed="rId1"/>
          <a:stretch/>
        </p:blipFill>
        <p:spPr>
          <a:xfrm>
            <a:off x="-101520" y="-63360"/>
            <a:ext cx="16459200" cy="10227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135120" y="8893080"/>
            <a:ext cx="1005120" cy="127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TS Holding GmbH </a:t>
            </a: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7" name="Trainer_Fotolia_5544325_XS" descr=""/>
          <p:cNvPicPr/>
          <p:nvPr/>
        </p:nvPicPr>
        <p:blipFill>
          <a:blip r:embed="rId1"/>
          <a:stretch/>
        </p:blipFill>
        <p:spPr>
          <a:xfrm>
            <a:off x="-20520" y="-11160"/>
            <a:ext cx="6116400" cy="9166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11840" y="642960"/>
            <a:ext cx="8917200" cy="4302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140d"/>
                </a:solidFill>
                <a:latin typeface="Helvetica Neue"/>
              </a:rPr>
              <a:t>Und jetzt schauen wir uns einmal an…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wie Sie mehr Neukunden gewinnen,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mehr Folgeaufträge bekommen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…</a:t>
            </a:r>
            <a:r>
              <a:rPr b="0" lang="en-US" sz="4000" spc="-1" strike="noStrike">
                <a:solidFill>
                  <a:srgbClr val="000000"/>
                </a:solidFill>
                <a:latin typeface="Helvetica Neue"/>
              </a:rPr>
              <a:t>und mehr Geld verdienen!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rsten Seelbach</cp:lastModifiedBy>
  <dcterms:modified xsi:type="dcterms:W3CDTF">2014-03-30T19:58:36Z</dcterms:modified>
  <cp:revision>1</cp:revision>
  <dc:subject/>
  <dc:title>Folie 1</dc:title>
</cp:coreProperties>
</file>